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  <p:custShowLst>
    <p:custShow name="Nowy niestandardowy pokaz slajd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320A3-3D44-4DE5-8099-6D08EF489F19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Konspekt lekcji z biologii – klasa III gimnazj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Dział: Ochrona przyr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Temat lekcji: Parki narodowe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Cele lek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uczeń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tłumaczy pojęcie „park narodow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wskazuje na mapie Polski parki naro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prezentuje wybrane parki naro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omawia osobliwości parków narod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Metody i formy pracy: pokaz multimedial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Środki dydaktyczne: komputer, projektor multimedialny, ek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Prezentacja omawiana przez uczni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ECA-9A7C-477C-88ED-33D0264D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1B8-005B-4201-B330-D02F278C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528-4230-4365-80C1-E6627217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033-F00C-473F-987E-F5C4A2BC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E82-2768-45B0-987E-A2156EC9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786-F284-43EB-B68A-1FD37EB1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A3E-8793-42B6-B8E2-523F5BD4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155-5D95-4D27-834D-EE7F8CF5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891-2479-4B33-B6FF-E6E17A76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367-7FAF-460D-9C8A-D1D3F6D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D45-4D46-418C-95DA-51C15F83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6E5-2651-4841-9114-6DE31D63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C2B03-850C-46B2-A70A-E45FCC09E642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jście W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8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ęś gęg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iększe stanowiska lęgowe ptaków i przelo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rzyp bagi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ęś gęg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79640" y="3998880"/>
            <a:ext cx="4086360" cy="356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ielkopol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7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4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ziora polodowc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walia dwulis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60720" y="4038480"/>
            <a:ext cx="37796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igier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080" y="240984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8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ó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zecze rzeki Czarna Hańcza i dopływ Niem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iczka okrągłolis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ó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0200" y="4119480"/>
            <a:ext cx="361944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ol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37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rzeże klifow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itnik zwyczajn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08160" y="4140360"/>
            <a:ext cx="3832200" cy="3471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0" y="23940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400"/>
                <a:gridCol w="1767240"/>
                <a:gridCol w="1779480"/>
              </a:tblGrid>
              <a:tr h="58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0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łotniak staw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ny podmokłe 90% powierzch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z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łotniak staw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17600" y="774720"/>
          <a:ext cx="5521320" cy="844560"/>
        </p:xfrm>
        <a:graphic>
          <a:graphicData uri="http://schemas.openxmlformats.org/drawingml/2006/table">
            <a:tbl>
              <a:tblPr/>
              <a:tblGrid>
                <a:gridCol w="5521320"/>
              </a:tblGrid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885960"/>
            <a:ext cx="903600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rwi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54672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jcow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pe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ki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czyk, cha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perz, bors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5118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ien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2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zy Ko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łom Dunaj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iszek pieniń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7800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le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2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żur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na, torfowi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nica torf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żuraw, bocian czarny, żółw błot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0" y="4067280"/>
            <a:ext cx="360036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808200"/>
            <a:ext cx="90360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ztocz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83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ik po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zcza Jodł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ła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14800" y="4140360"/>
            <a:ext cx="3624120" cy="343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7207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łow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7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18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wyd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kwiel nadmo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lik krzykli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79640" y="4140360"/>
            <a:ext cx="360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Świętokrzy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2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łobor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, jel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957400" y="4019400"/>
            <a:ext cx="3702240" cy="354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atrz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4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92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ejski układ rośli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60720" y="4140360"/>
            <a:ext cx="360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/>
  <dcterms:modified xsi:type="dcterms:W3CDTF">2010-05-05T16:37:08Z</dcterms:modified>
  <cp:revision>13</cp:revision>
  <dc:subject/>
  <dc:title/>
</cp:coreProperties>
</file>